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23B-179F-4ED9-A6DD-2A4F205B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78E-BD18-4997-A885-D23F0B6D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88C-CEA4-4454-9CEE-345684C2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A18-0C9F-45AF-A349-28097141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8C37-2F6F-4993-BEB4-5AD412EE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6E1-5CE7-453E-A7B7-1C353FDF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CD2A-7AAC-4CFB-BB69-208C8607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DFB7-4D74-4315-BABA-E131B24B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CB16-125C-41E4-8ADC-3838E7BD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9A4C-5838-421D-AAB0-70A3B997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2CA-3972-446E-B508-9D7860D5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628-51DA-427E-A36C-5255702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170F-DB8A-43E1-8D41-72C3E19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C10A-F187-4228-A531-1803348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62A9-6EDF-43B6-9D9F-32BEC53D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CE7-617F-4C33-BE70-E6420147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2047-0234-4955-A182-B3F30384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708-2984-4D2A-BB3B-E54DCB8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C85-B631-46B2-B9CF-32914D0C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D4F-5EA3-46AE-993D-74A2FA55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BC2-0D06-4B3B-9945-D58321F9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8E9-D9F4-4522-A9CE-85B6C94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18C-8727-4488-B224-9B01E27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009-6623-4CCF-8570-8E66E10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D65-1693-4B4C-BC29-AB52401F59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21B7-028F-4BCC-B7AD-F026C76A4B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elcome to Year 8 Histor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ate homewor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KNOW that your homework is going to be late then let me know the day before at the latest. I won’t bite your head off and if you have a good reason I might grant an extens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don’t tell me before and simply wait till the lesson I just might bite your head off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236600" cy="10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m I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me: Mr. Wr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ity: Britis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me town: Hasting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st job: Teaching History in Milan, Ita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o I want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ame as you: for you all to enjoy studying History and to do fantastically well, If you are enjoying yourselves and doing well then so am I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 are like the clown fish and sea anemone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00" y="6400800"/>
            <a:ext cx="790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en.wikipedia.org/wiki/Image:Common_clownfish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e Rule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Do the right thing!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war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will ALWAYS aim to give out more rewards than punishments and say more positive things than negative things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106704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body is perfect, including me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break ‘the rule’ then I operate a ‘3 strikes’ policy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strike: I tell you what you have done wro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strike: Your name goes on the boar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rd strike: Tick by your name = detention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we studying this yea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lack Peoples of the America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erial Chi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very week you should spend a few minutes ‘reviewing’ the work done, this might involv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-reading a source you found tricky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earning some of the keywords covered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ooking up some extra information on something you found especially interesting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weeks there will also be a specific homework task to do. There will be a clear and fair due date each time: make sure it is in on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08-28T05:07:13Z</dcterms:modified>
  <cp:revision>2</cp:revision>
  <dc:subject/>
  <dc:title>Welcome to Year 8 History!</dc:title>
</cp:coreProperties>
</file>